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0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ugrifam" initials="u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<Relationship Id="rId29" Type="http://schemas.openxmlformats.org/officeDocument/2006/relationships/commentAuthors" Target="commentAuthors.xml"/>
</Relationships>
</file>

<file path=ppt/comments/comment10.xml><?xml version="1.0" encoding="utf-8"?>
<p:cmLst xmlns:p="http://schemas.openxmlformats.org/presentationml/2006/main">
  <p:cm authorId="0" dt="2007-03-29T09:07:08.790000000" idx="1">
    <p:pos x="5313" y="1964"/>
    <p:text>tab in text that runs two lines for clarity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E66E-0323-40FA-8FDC-642009E35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80E2-6C67-4C31-B8FA-EF71D0AC5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1392-485A-4F34-BEBF-5A4EDF8C7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B755-11B0-4AC9-9919-960288CB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A124-5E69-410F-992E-836CA289E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6BC6-F85C-4F81-BFC2-6D7428AEA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1E8D-8571-4056-BD22-DC5E4861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AAC3-C667-4C0D-AD15-2AB34356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6431-F253-43B2-B492-55693FD8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09F9-ED24-49FA-92E5-A9A09074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59CB-5844-4805-B76F-94C0BB6D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C036-3C1D-40A9-A257-C9D8E3BF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4B10-578E-47BC-85BD-F12DAF18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71D4-71C7-4742-86D6-43767324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BCF3-6B4D-4DE0-B96B-ED092AB91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4 Pastoral nomad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Has increased in recent dec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s a form of intensive subsistence agri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id not develop until after perman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icultural settlements were bui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s synonymous with transhu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s most common in dry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4 Pastoral nomad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Has increased in recent dec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s a form of intensive subsistence agri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id not develop until after perman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icultural settlements were bui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s synonymous with transhu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Is most common in dry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5 Plantations are most commonly found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e American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ast and West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outh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Latin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5 Plantations are most commonly found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e American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ast and West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outh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Latin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6 Compared to other grains, w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s of less economic impor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as more uses for human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annot be stored a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Grows less well in humid continental cl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s grown primarily for domestic con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6 Compared to other grains, w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s of less economic impor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Has more uses for human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annot be stored a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Grows less well in humid continental cl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s grown primarily for domestic con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7 Ranching has declined in the western United States primarily be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nfectious diseases have killed off he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Growing crops is a more efficient use of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federal government provides n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entives for ran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Vegetarianism has become so pop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 lack of water limits the number of animal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 ac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7 Ranching has declined in the western United States primarily be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nfectious diseases have killed off he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Growing crops is a more efficient use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federal government provides n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entives for ran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Vegetarianism has become so pop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 lack of water limits the number of animal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 ac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8 The most fundamental shared aspect of regions that practice Mediterranean agricultur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 love of good w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 willingness to experiment with new cr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imilar climate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lose proximity to the Mediterranean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The speaking of Romance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8 The most fundamental shared aspect of regions that practice Mediterranean agricultur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 love of good w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 willingness to experiment with new cr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Similar climate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lose proximity to the Mediterranean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The speaking of Romance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1 All of the following areas were primary or secondary origins of vegetative planting, excep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outh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outh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Mesopotamia/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West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9 According to the von Thunen model, which of the following factors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mportant to a farmer when deciding which crops to gr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Distance to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ransportation cost per kilo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Yield per ac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Price per bush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utritional value of the cr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9 According to the von Thunen model, which of the following factors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mportant to a farmer when deciding which crops to gr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Distance to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ransportation cost per kilo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Yield per ac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Price per bush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Nutritional value of the cr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10 Which of the following areas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ffected by desertif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merican South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entral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entral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outhwestern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10 Which of the following areas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ffected by desertif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merican South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entral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Central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outhwestern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10_14"/>
          <p:cNvPicPr/>
          <p:nvPr/>
        </p:nvPicPr>
        <p:blipFill>
          <a:blip r:embed="rId1"/>
          <a:stretch/>
        </p:blipFill>
        <p:spPr>
          <a:xfrm>
            <a:off x="304920" y="762120"/>
            <a:ext cx="8534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10_01"/>
          <p:cNvPicPr/>
          <p:nvPr/>
        </p:nvPicPr>
        <p:blipFill>
          <a:blip r:embed="rId1"/>
          <a:stretch/>
        </p:blipFill>
        <p:spPr>
          <a:xfrm>
            <a:off x="304920" y="609480"/>
            <a:ext cx="86104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1 All of the following areas were primary or secondary origins of vegetative planting, excep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outh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South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Mesopotamia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West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2 Subsistence agriculture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on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atin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outh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2 Subsistence agriculture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on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atin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outheast As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10_03"/>
          <p:cNvPicPr/>
          <p:nvPr/>
        </p:nvPicPr>
        <p:blipFill>
          <a:blip r:embed="rId1"/>
          <a:stretch/>
        </p:blipFill>
        <p:spPr>
          <a:xfrm>
            <a:off x="304920" y="914400"/>
            <a:ext cx="85341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3 Shifting cultivation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n the interior region of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ithin 20 degrees latitude of the equ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n more developed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n humid continental cl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n close proximity to large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3 Shifting cultivation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n the interior region of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Within 20 degrees latitude of the equ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n more developed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n humid continental cl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n close proximity to large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21:30:07Z</dcterms:created>
  <dc:creator>Michael Pretes</dc:creator>
  <dc:description/>
  <dc:language>en-US</dc:language>
  <cp:lastModifiedBy>Unity Rain</cp:lastModifiedBy>
  <dcterms:modified xsi:type="dcterms:W3CDTF">2011-04-24T23:10:10Z</dcterms:modified>
  <cp:revision>67</cp:revision>
  <dc:subject/>
  <dc:title>CRS Chapter 4</dc:title>
</cp:coreProperties>
</file>